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2F07-7897-46D6-97A7-D70D6967C8DC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ssholder for lysbilde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DA53-77D8-480A-AA1E-9463ED192DE4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3240" y="76320"/>
            <a:ext cx="9136080" cy="676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ttvett.reddbarna.no/" TargetMode="External"/><Relationship Id="rId2" Type="http://schemas.openxmlformats.org/officeDocument/2006/relationships/hyperlink" Target="http://www.nettvett.no/" TargetMode="External"/><Relationship Id="rId3" Type="http://schemas.openxmlformats.org/officeDocument/2006/relationships/hyperlink" Target="http://www.norsis.no/" TargetMode="External"/><Relationship Id="rId4" Type="http://schemas.openxmlformats.org/officeDocument/2006/relationships/hyperlink" Target="http://www.uninettabc.no/iktreglement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vdata.no/all/hl-19610512-002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no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orvund.net/index.php?page=opph-inn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nderholdning.no.msn.com/film-og-musikk/artikkel.aspx?cp-documentid=152752295" TargetMode="External"/><Relationship Id="rId2" Type="http://schemas.openxmlformats.org/officeDocument/2006/relationships/hyperlink" Target="http://iktblogg.hibo.no/tag/web-20/" TargetMode="External"/><Relationship Id="rId3" Type="http://schemas.openxmlformats.org/officeDocument/2006/relationships/hyperlink" Target="http://sinober.blogg.no/" TargetMode="External"/><Relationship Id="rId4" Type="http://schemas.openxmlformats.org/officeDocument/2006/relationships/hyperlink" Target="http://www.abcnyheter.no/norge/100202/paereisen-kommer-tilbake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etilsynet.no/no/Trygg-bruk/" TargetMode="External"/><Relationship Id="rId2" Type="http://schemas.openxmlformats.org/officeDocument/2006/relationships/hyperlink" Target="http://www.dubestemmer.no/" TargetMode="External"/><Relationship Id="rId3" Type="http://schemas.openxmlformats.org/officeDocument/2006/relationships/hyperlink" Target="http://www.slettmeg.no/" TargetMode="External"/><Relationship Id="rId4" Type="http://schemas.openxmlformats.org/officeDocument/2006/relationships/hyperlink" Target="http://www.personvernskolen.no/" TargetMode="External"/><Relationship Id="rId5" Type="http://schemas.openxmlformats.org/officeDocument/2006/relationships/hyperlink" Target="http://www.medietilsynet.no/no/Trygg-bruk/Ressurser/Medietilsynets-rapport-om-barn-og-digitale-medier/" TargetMode="External"/><Relationship Id="rId6" Type="http://schemas.openxmlformats.org/officeDocument/2006/relationships/hyperlink" Target="http://www.uninettabc.no/iktreglement/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0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1"/>
          <p:cNvSpPr/>
          <p:nvPr/>
        </p:nvSpPr>
        <p:spPr>
          <a:xfrm>
            <a:off x="539640" y="765000"/>
            <a:ext cx="803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ffffff"/>
                </a:solidFill>
                <a:latin typeface="Verdana"/>
              </a:rPr>
              <a:t>Sosiale medier (Web 2.0) – personvern – opphavsrett – nettvet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kstSylinder 3"/>
          <p:cNvSpPr/>
          <p:nvPr/>
        </p:nvSpPr>
        <p:spPr>
          <a:xfrm>
            <a:off x="3706560" y="4929120"/>
            <a:ext cx="1922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Verdana"/>
              </a:rPr>
              <a:t>Geir Hareide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Verdana"/>
              </a:rPr>
              <a:t>Rådgiver SEV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Verdana"/>
              </a:rPr>
              <a:t>Høgskolen i Bod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Verdana"/>
              </a:rPr>
              <a:t>19. – 20. apri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642960" y="3000240"/>
            <a:ext cx="1495440" cy="438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1214280" y="4071960"/>
            <a:ext cx="1143000" cy="63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3071880" y="2857680"/>
            <a:ext cx="154296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3357720" y="4071960"/>
            <a:ext cx="223812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6"/>
          <a:stretch/>
        </p:blipFill>
        <p:spPr>
          <a:xfrm>
            <a:off x="5357880" y="3000240"/>
            <a:ext cx="1714320" cy="4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7"/>
          <a:stretch/>
        </p:blipFill>
        <p:spPr>
          <a:xfrm>
            <a:off x="6143760" y="4143240"/>
            <a:ext cx="22860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ettvett </a:t>
            </a:r>
            <a:r>
              <a:rPr b="0" lang="nb-NO" sz="1200" spc="-1" strike="noStrike">
                <a:solidFill>
                  <a:srgbClr val="000000"/>
                </a:solidFill>
                <a:latin typeface="Verdana"/>
              </a:rPr>
              <a:t>(fra Nettvett Redd Bar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Nettvett = personvern?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Ja, men omhandler ogs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Trusl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Vo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Seksuelle overgrep og krenkels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Groo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Bilder som dokumenterer overgre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Alvorlig mobb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Ærekrenk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Bryte seg inn på andres netts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Uønsket publis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ettv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Nettvett = trygg bruk av Inter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Vise resp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Tenke seg 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Anti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Brannm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ikre pass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yttige lenker: Nettv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Nettvett Redd Ba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nettvett.reddbarna.no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Nettvett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ettvett.no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Nor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norsis.no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IKT-reglement (sko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inettabc.no/iktreglement/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ettv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Diskusjon om nettvett i skolesammenh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kolens rut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Undervisningsopple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Bevisstgjø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o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Opphavsr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Lov om rett til åndsverk m.v.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 reguler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Opphavsr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Ener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Åndsv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pred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Fremfø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Navng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o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Opphavsr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Problemstill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Hva kan jeg bruke til eget bru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Hva kan jeg bruke i undervis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Hvordan gjør jeg det (tillatelse osv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Løsning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Materiale som er frigi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Creative Commons-lisen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5429160"/>
            <a:ext cx="8859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a rel="license" href="http://creativecommons.org/licenses/by-nc-sa/3.0/no/"&gt;&lt;img alt="Creative Commons License" style="border-width:0" src="http://i.creativecommons.org/l/by-nc-sa/3.0/no/88x31.png" /&gt;&lt;/a&gt;&lt;br /&gt;&lt;span xmlns:dc="http://purl.org/dc/elements/1.1/" property="dc:title"&gt;GHH_Sosiale medier...&lt;/span&gt; av &lt;span xmlns:cc="http://creativecommons.org/ns#" property="cc:attributionName"&gt;Geir Hareide Hansen&lt;/span&gt; er lisensiert under en &lt;a rel="license" href="http://creativecommons.org/licenses/by-nc-sa/3.0/no/"&gt;Creative Commons Navngivelse-Ikkekommersiell-Del p&amp;#229; samme vilk&amp;#229;r 3.0 Norge Lisens&lt;/a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yttige lenker: Opphavsre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Olav Torv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orvund.net/index.php?page=opph-in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Jussport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www.jussportalen.no/index.php?site=jussportalen/1740/18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ABM-utvik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www.abm-utvikling.no/publisert/abm-skrift/pa-rett-hylle-med-andsverklo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IKT i utdanning/opphavsr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no.wikibooks.org/wiki/IKT_i_utdanning/Opphavsret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Lov og v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www.skolenettet.no/moduler/templates/Module_Overview.aspx?id=28890&amp;epslanguage=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Creative Com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ttp://creativecommons.org/choose/?lang=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Oppg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Bloggp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kriv en bloggpost på din blogg der du reflekterer litt rundt emnene og diskusjon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Kommenter andre sine bloggp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Wik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Legg gjerne ut nyttige lenker etc vedrørende sosiale medier, personvern, nettvett o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Web 2.0</a:t>
            </a:r>
            <a:br>
              <a:rPr sz="4400"/>
            </a:b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(fra Wikiped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Deltakerdrevne, interaktive nettjene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Ta i bruk kollektiv intellig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Aktiv deltak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Delingskult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Eksempl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Blogg, wiki, YouTube, Facebook, Twitter os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Diskusjonsforum knyttet til nyheter i me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Osv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Sosiale medi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1247760" cy="228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1714680" cy="46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71680" y="2643120"/>
            <a:ext cx="2238120" cy="64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3071880" y="2857680"/>
            <a:ext cx="2286000" cy="49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5286240" y="1643040"/>
            <a:ext cx="3400560" cy="107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6"/>
          <a:stretch/>
        </p:blipFill>
        <p:spPr>
          <a:xfrm>
            <a:off x="714240" y="4214880"/>
            <a:ext cx="154332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7"/>
          <a:stretch/>
        </p:blipFill>
        <p:spPr>
          <a:xfrm>
            <a:off x="6072120" y="3071880"/>
            <a:ext cx="1143000" cy="6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8"/>
          <a:stretch/>
        </p:blipFill>
        <p:spPr>
          <a:xfrm>
            <a:off x="3143160" y="3786120"/>
            <a:ext cx="164808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9"/>
          <a:stretch/>
        </p:blipFill>
        <p:spPr>
          <a:xfrm>
            <a:off x="5072040" y="4214880"/>
            <a:ext cx="1266840" cy="149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10"/>
          <a:stretch/>
        </p:blipFill>
        <p:spPr>
          <a:xfrm>
            <a:off x="3143160" y="4572000"/>
            <a:ext cx="1443240" cy="1533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11"/>
          <a:stretch/>
        </p:blipFill>
        <p:spPr>
          <a:xfrm>
            <a:off x="1143000" y="5286240"/>
            <a:ext cx="1181160" cy="4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12"/>
          <a:stretch/>
        </p:blipFill>
        <p:spPr>
          <a:xfrm>
            <a:off x="6929280" y="4429080"/>
            <a:ext cx="1495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571760" y="0"/>
            <a:ext cx="586728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Kraften” i sosiale med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Justin Bi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Thomas Mo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Regine Stok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Diplom-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Sosiale med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Diskutér kort følgende punk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Mulig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Begrensn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Utfordr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Skriv gjerne ned noen stikkord til senere bruk (oppg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Personvern </a:t>
            </a:r>
            <a:r>
              <a:rPr b="0" lang="nb-NO" sz="1200" spc="-1" strike="noStrike">
                <a:solidFill>
                  <a:srgbClr val="000000"/>
                </a:solidFill>
                <a:latin typeface="Verdana"/>
              </a:rPr>
              <a:t>(fra Medietilsyn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Lover og reg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Personopplysningsloven – sier noe 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Personopplys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Samtyk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Informasjon og inns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traffeloven (§§227, 390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True, sjikanere, fornærme ved yt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Åndsverkloven (§45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Begrensning vedr. publisering og gjengiving av bilder av andre menne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Nyttige lenker: Person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Trygg b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edietilsynet.no/no/Trygg-bru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DU beste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dubestemmer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lett m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slettmeg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Personvernsk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personvernskolen.no/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Medietilsynets rapport om barn og digitale medier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://www.medietilsynet.no/no/Trygg-bruk/Ressurser/Medietilsynets-rapport-om-barn-og-digitale-medier/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IKT-reglement (sko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http://www.uninettabc.no/iktreglement/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Person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Diskusjon: Utfordringer vedr. personv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Stikkord til hjel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om læ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om el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om privat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kolens rutiner (samtykke, opplæring, veiledning, regler os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Undervis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Høyre klammeparentes 3"/>
          <p:cNvSpPr/>
          <p:nvPr/>
        </p:nvSpPr>
        <p:spPr>
          <a:xfrm>
            <a:off x="4643280" y="3143160"/>
            <a:ext cx="428760" cy="1214640"/>
          </a:xfrm>
          <a:custGeom>
            <a:avLst/>
            <a:gdLst>
              <a:gd name="textAreaLeft" fmla="*/ 0 w 428760"/>
              <a:gd name="textAreaRight" fmla="*/ 154800 w 428760"/>
              <a:gd name="textAreaTop" fmla="*/ 14040 h 1214640"/>
              <a:gd name="textAreaBottom" fmla="*/ 120060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7"/>
                </a:cubicBezTo>
                <a:lnTo>
                  <a:pt x="10800" y="10241"/>
                </a:lnTo>
                <a:cubicBezTo>
                  <a:pt x="10800" y="10650"/>
                  <a:pt x="16200" y="11058"/>
                  <a:pt x="21600" y="11058"/>
                </a:cubicBezTo>
                <a:cubicBezTo>
                  <a:pt x="16200" y="11058"/>
                  <a:pt x="10800" y="11467"/>
                  <a:pt x="10800" y="11875"/>
                </a:cubicBezTo>
                <a:lnTo>
                  <a:pt x="10800" y="20783"/>
                </a:lnTo>
                <a:cubicBezTo>
                  <a:pt x="10800" y="21192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kstSylinder 6"/>
          <p:cNvSpPr/>
          <p:nvPr/>
        </p:nvSpPr>
        <p:spPr>
          <a:xfrm>
            <a:off x="5147640" y="3500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0:22:59Z</dcterms:created>
  <dc:creator>Geir Hareide Hansen</dc:creator>
  <dc:description/>
  <dc:language>en-US</dc:language>
  <cp:lastModifiedBy>Geir Hareide Hansen</cp:lastModifiedBy>
  <dcterms:modified xsi:type="dcterms:W3CDTF">2010-04-19T12:39:32Z</dcterms:modified>
  <cp:revision>37</cp:revision>
  <dc:subject/>
  <dc:title>Lysbilde 1</dc:title>
</cp:coreProperties>
</file>